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ADB29-1F67-408A-9428-5F6411ECAB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DC621-FDF7-4E19-8777-62C1527B4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97B29-D967-49D7-8C8B-DE41EDEF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60F5F-DDCA-4422-8B36-8D58FD928A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223E7-087A-48D2-B96A-280037DCE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92920-22C7-43A6-B5AD-9ED1372FA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98E04-64D3-4CC0-8CDE-F292D85F7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63506-BD83-4C5F-B3CE-FBC6AD06E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43B20-1F2E-4912-8A17-9CC7FD4D9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C25E8-64A9-4556-B2A4-BCEDECA05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7B60C-8F25-40E9-8CFF-357116486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24C83-DE15-4980-981F-4D0433431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25F3B-AF98-4AD5-99DE-809BEDFC46D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97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传统的疝修补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无张力疝修补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ension-free hernioplast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腔镜疝修补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aparoscopic inguinal herniorrhaph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顿性疝和绞窄性疝的手术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7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腹股沟斜疝，在医生建议下行腹股沟斜疝修补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并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发症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②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如何观察与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 与疝块嵌顿或绞窄、手术创伤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  缺乏腹外疝病因、预防腹内压增高及促进术后康复的有关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切口感染、阴囊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除引起腹内压增高的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顿性疝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绞窄性疝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禁食、肠胃减压，输液纠正水、电解质及酸碱平衡失调、抗感染，必要时备血，做好急症手术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棉线束带或绷带压深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善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壁肌肉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服用阿司匹林的患者术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停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便秘者术前晚灌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手术室前，嘱其排空尿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腹内压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阴囊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复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外疝可分为易复性疝、难复性疝、嵌顿性疝及绞窄性疝等类型，先天性解剖结构异常和后天性腹壁薄弱或缺损是其发病的主要原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股沟疝可分为腹股沟斜疝及腹股沟直疝两种，以斜疝多见。由于疝内容物突出路径的不同，其外观、是否容易嵌顿等均不同。其中绞窄性疝为疝内容物发生循环障碍甚至坏死，病情危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婴幼儿疝可采取保守治疗方法，成年人腹股沟疝可选择手术治疗。术式可采取疝囊高位结扎术、疝修补术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前应消除引起腹内压增高的因素，手术区严格备皮，做好灌肠和排尿的护理。术后预防腹内压升高，切口部位沙袋压迫，托起阴囊，预防阴囊水肿，做好切口的隔离保护。手术治疗的患者，出院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内避免重体力劳动，避免生活和工作中引起腹内压增高的因素，积极治疗和预防各种导致腹内压增高的疾病，防止腹外疝的复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腹股沟斜疝、腹股沟直疝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不同类型腹股沟疝的治疗要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腹股沟斜疝和直疝的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腹股沟疝的发病机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腹股沟疝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外疝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bdominal external hern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腹腔内的脏器或组织连同壁腹膜，经腹壁薄弱点或孔隙，向体表突出所形成。常见腹外疝有腹股沟疝、股疝、脐疝、切口疝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7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某小区保安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日前出现阵发性腹胀、腹痛，伴有恶心呕吐症状，不能正常排便。上班站立时间较长或咳嗽时，腹股沟区出现明显肿块，自述疼痛。有慢性咳嗽病史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腹股沟区有一圆形肿块向外凸出，咳嗽时痛感增强，手指压迫腹股沟韧带中点上方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处，肿块不再突出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　 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股沟斜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易复性斜疝：除腹股沟区有肿块，偶有胀痛外，并无其他明显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难复性斜疝：除胀痛稍重外，主要特点是疝块不能完全回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股沟斜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顿性斜疝：疝块突然增大，并伴有明显疼痛，平卧或用手推送不能使疝块回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绞窄性斜疝：临床症状多严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股沟直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直立时，在腹股沟内侧端、耻骨结节外上方出现一半球形肿块，往往不伴有疼痛或其他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透光实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棉线束带法或绷带压深环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医用疝带的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顿性疝的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04:33:29Z</dcterms:modified>
  <cp:revision>88</cp:revision>
  <dc:subject/>
  <dc:title>内科护理学</dc:title>
</cp:coreProperties>
</file>